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2FAC-4A9D-4B20-B698-B095DF695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AA85-C781-476A-A6C0-D3440C3FE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FF20-6204-4218-865B-77D13EB11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00E5-8F4C-4EFD-B6EC-FDAEEDE93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7EF9-2497-4197-BF2B-0405673D2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2929-D51E-42F1-B47A-E82000868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A709-3577-425C-B9E2-C8E0F22B6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F789-E83D-436E-A0A0-F20DD57E4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279B-38BF-4110-8088-3E9440D68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1588-5462-4998-AC30-C0FD235F8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5724-0A8F-458A-8386-44029E942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1E57-0E9D-47F1-81EC-07B646CC6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CA8B-8FB2-490C-8BE8-9042B9950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246B-1B1F-4255-9F87-DAE8D8FD0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FCD3-958E-4D93-B943-2BC751003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F0F1-10BF-45DB-A9CE-2E8951DF8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33B3-D751-4161-9EBB-1333E22D0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F4E9-F422-4CD2-A530-55CDAF247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7A01-F51E-4FE4-A4A0-C95B4A657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0481-8DDE-47CD-BBF9-10970C9AA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A724-356F-4420-B195-1635CC224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F73F-CFDF-4E95-B9DE-3A92A81E2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DA7A-9727-413D-A8D4-9949B4B7F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519-C22F-40BD-991C-F710CD83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5DF2-68FB-4F43-9C09-904A1761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9C5-3AD6-4FAE-A1C4-190DEB2B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B94-A929-4C5D-A283-C390C5D7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BA2-E477-494F-8730-0C9F5F78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F94-20F7-46D4-BE13-66B76749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D92-0FA6-4EB8-859B-BF0F5DD0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E53-AF21-404C-B74B-BBC4D973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A95-0FBE-4564-A4C4-37ADBFE6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B58-C50B-497C-A304-405332C5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2AC-301E-40AF-B058-BC63C3C6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6B6-BBBB-4D47-8B34-1A6A6BC2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D1DE-E89B-4DA7-A9B4-C29B10B0AE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The Fall of the 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House of Ush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Edgar Allan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18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oe"/>
          <p:cNvPicPr/>
          <p:nvPr/>
        </p:nvPicPr>
        <p:blipFill>
          <a:blip r:embed="rId1"/>
          <a:stretch/>
        </p:blipFill>
        <p:spPr>
          <a:xfrm>
            <a:off x="301680" y="152280"/>
            <a:ext cx="3056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Who Represents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Roder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An artist figure (5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Nervous agitation (5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Lives in dark upstairs apartment (5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Cadaverous complexion (5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ant of moral energy” (5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excessive nervous agitation” (5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Roderick’s mental condition is affected by hi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He was enchanted by certain superstitious impressions in regard to the dwelling which he tenanted . . . An effect which the </a:t>
            </a: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physique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of the gray walls and turrets, and of the dim tarn into which they all looked down, had, at length, brought about upon the </a:t>
            </a: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morale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of his existence.” (5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Here, “physique” refers to something phy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And “morale” refers to something m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Roderick is all </a:t>
            </a:r>
            <a:r>
              <a:rPr b="1" lang="en-US" sz="3600" spc="-1" strike="noStrike">
                <a:solidFill>
                  <a:srgbClr val="000000"/>
                </a:solidFill>
                <a:latin typeface="Baskerville Old Face"/>
              </a:rPr>
              <a:t>mind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in a weak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He represents in one way the life of the isolated 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Pain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Guitar 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Madel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Illness has debilitated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All descriptions focus on the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gradual wasting away of the person” (5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Roderick and the narrator screw down the lid of her coffin (5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She returns from the tomb to reclaim her twin brother, her “dou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 huge antique panels…threw back” (5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She “fell heavily inward upon…her brother and…bore him to the floor a corp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What is Poe’s po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Poe addresses the dual and conflicted nature of the 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Mind and body are at war with each other in each of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We try to repress one side and live withou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But we cannot achieve a harmonious existence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The Function of Setting - Ext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“house of Usher” has two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physical dw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family line, or line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 entire family lay in the direct line of desc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house is also a type of character in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Like the family, it is of “an excessive antiquity” (5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landscape is overgrown and rag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On the front down the middle is “a barely perceptible fissure” going in “a zigzag direction” (5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Interior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Gothic architecture (5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indows were long, narrow and point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feeble gleams of encrimsoned ligh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dark draper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atmosphere of sorro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Roderick lives upstairs (mi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Madeleine is entombed below ground (bo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Structure and 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Poe creates texts within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Haunted Palace” (poem) reflects the Usher family life in the house (5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Mad Trist” (story) parallels Madeleine’s return from the g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storm outside is analogous to the turmoil inside the characters in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book titles in Roderick’s library are symbolic of the themes of the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Roderick’s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Chiromancy of Robert Flud, of Jean D’Indag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Directorium Inquisitoru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old African Satyrs, over which Usher would sit dreaming for hours” (516-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The Fall of the House of Ush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gothic context of the 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doubling motif of the 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function of setting in the 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structural unity of the 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Poe’s Theory of Literary 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Poe earned his living as a “magazinist,” not a fiction wr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He was an editor and reviewer for many major magaz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Poe wrote a great deal of literary criticism, literary theory, and book revi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His theory of literary unity was articulated in a review of Hawthorne’s collection of stories, </a:t>
            </a: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Twice-Told Tales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n 18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uthor should “conceive, with deliberate care, a certain unique or single effect to be wrought out, [and] then invent such … events as may best aid him in establishing this preconceived effe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whole composition there should be no word written, of which the tendency, direct or indirect, is not to the one pre-established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Unity in “Fall of the House of Ush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rst and last paragraphs are mirror images of each other, creating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texts-within-text reinforce the central t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house itself symbolizes the split in the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construction of the house reflects a “perfect adaptation of parts” (5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The Gothic literary tra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Begun in eighteenth century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Nove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Horace Wal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Ann Radcli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Matthew “Monk” Lew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Popular form in British literary 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mported into American short story - 19th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Key ingredient was sensation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Gothic Architecture 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Started in US about 18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Steeply pitched roo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Pointed arch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Elaborate trim around roof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High do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Lancet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goth_hs"/>
          <p:cNvPicPr/>
          <p:nvPr/>
        </p:nvPicPr>
        <p:blipFill>
          <a:blip r:embed="rId1"/>
          <a:stretch/>
        </p:blipFill>
        <p:spPr>
          <a:xfrm>
            <a:off x="685800" y="2747880"/>
            <a:ext cx="38098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Poe’s “house of Usher” looks more like a medieval castle or English cathedral in Gothic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cathedral"/>
          <p:cNvPicPr/>
          <p:nvPr/>
        </p:nvPicPr>
        <p:blipFill>
          <a:blip r:embed="rId1"/>
          <a:stretch/>
        </p:blipFill>
        <p:spPr>
          <a:xfrm>
            <a:off x="947880" y="1981080"/>
            <a:ext cx="3284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house might look something like this (</a:t>
            </a: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from a photograph by Simon Marsden in h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askerville Old Face"/>
              </a:rPr>
              <a:t>Visions of Poe</a:t>
            </a: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hillingham"/>
          <p:cNvPicPr/>
          <p:nvPr/>
        </p:nvPicPr>
        <p:blipFill>
          <a:blip r:embed="rId1"/>
          <a:stretch/>
        </p:blipFill>
        <p:spPr>
          <a:xfrm>
            <a:off x="685800" y="2532240"/>
            <a:ext cx="38098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Elements of Gothic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Emphasis on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Exterior: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nterior: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astle-lik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haracters are brooding, secre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Buried family secr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Long history of family tied to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The Doubling Mot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In literary criticism, this is called a “doppelganger,” from the German for “double-go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Exampl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Dr. Jekyll and Mr. Hyde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(Robert Louis Stevens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The Secret Sharer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(Joseph Conr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What function does the doppelganger motif ser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Represents the dual nature of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n Poe, one side of man is reason, or the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other is emotion, or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Roderick and Madeleine are genetically twins, but psychologically they are also dou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9:08:43Z</dcterms:created>
  <dc:creator>James Hutchisson</dc:creator>
  <dc:description/>
  <dc:language>en-US</dc:language>
  <cp:lastModifiedBy>Angie McCall</cp:lastModifiedBy>
  <dcterms:modified xsi:type="dcterms:W3CDTF">2014-03-17T19:35:41Z</dcterms:modified>
  <cp:revision>5</cp:revision>
  <dc:subject/>
  <dc:title>“The Fall of the House of Usher”</dc:title>
</cp:coreProperties>
</file>